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1610-3FEF-4748-837D-336E3AF9E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C7D-ACD8-418C-AFE4-70D1E816B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BAF-9772-449E-BC15-7341876FC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24B-B55F-403A-9A0D-663C18918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94B1-2677-4B68-8106-01E1583CC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FC6A-CA5F-4CD4-8CCD-CC940B9DF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1ED2-97BB-43BE-9BF3-76DECEDF7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3F3-9244-4CC0-9D7D-2EEC618CC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1BD8-15D2-46A4-AC00-501A017D0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2816-0F16-4A25-838F-2582FA3AC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30F0-3165-4922-991D-C7F6F7D6C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912-4075-4BAE-AADE-99B9D0085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2FD-989C-46A2-A482-D802AC89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AF8-84BA-485B-AE65-969BF65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21A-B144-4AAD-B15F-D4E9AFEE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8BF-C2CE-4D97-B049-DC73556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C18-3809-4FF6-901F-E94E7208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5B9-6FC1-4E23-BC5E-2F2F18E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A80-DC2D-4A25-8B2B-5FE1B898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8A0-2C6A-4322-B443-045B60BC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53E-94A0-45A6-B8E8-FF69E09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FF8-8992-49BC-B171-4DF3F6D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A24-F641-45DB-AB29-980BF16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67D-EAAC-400B-851E-7F42FD9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AD63-7CD8-47B4-A694-935996FF7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hyme Ti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3048120" y="865080"/>
            <a:ext cx="33876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Hepner\AppData\Local\Microsoft\Windows\Temporary Internet Files\Content.IE5\3L8348RR\MPj04387200000[1].jpg"/>
          <p:cNvPicPr/>
          <p:nvPr/>
        </p:nvPicPr>
        <p:blipFill>
          <a:blip r:embed="rId1"/>
          <a:stretch/>
        </p:blipFill>
        <p:spPr>
          <a:xfrm>
            <a:off x="1600200" y="685800"/>
            <a:ext cx="5522760" cy="3971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l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up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k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Hepner\AppData\Local\Microsoft\Windows\Temporary Internet Files\Content.IE5\XV4UTWKM\MCj03319220000[1].wmf"/>
          <p:cNvPicPr/>
          <p:nvPr/>
        </p:nvPicPr>
        <p:blipFill>
          <a:blip r:embed="rId2"/>
          <a:stretch/>
        </p:blipFill>
        <p:spPr>
          <a:xfrm>
            <a:off x="3352680" y="152388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it is your tur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a sentence that rhyme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aw a picture to mat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Hepner\AppData\Local\Microsoft\Windows\Temporary Internet Files\Content.IE5\3L8348RR\MCj04038930000[1].wmf"/>
          <p:cNvPicPr/>
          <p:nvPr/>
        </p:nvPicPr>
        <p:blipFill>
          <a:blip r:embed="rId1"/>
          <a:stretch/>
        </p:blipFill>
        <p:spPr>
          <a:xfrm>
            <a:off x="3581280" y="38862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epner\AppData\Local\Microsoft\Windows\Temporary Internet Files\Content.IE5\3L8348RR\MCj04038930000[1].wmf"/>
          <p:cNvPicPr/>
          <p:nvPr/>
        </p:nvPicPr>
        <p:blipFill>
          <a:blip r:embed="rId2"/>
          <a:stretch/>
        </p:blipFill>
        <p:spPr>
          <a:xfrm>
            <a:off x="4800600" y="3886200"/>
            <a:ext cx="8985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4876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c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aring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h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Users\Hepner\AppData\Local\Microsoft\Windows\Temporary Internet Files\Content.IE5\XV4UTWKM\MPj04447820000[1].jpg"/>
          <p:cNvPicPr/>
          <p:nvPr/>
        </p:nvPicPr>
        <p:blipFill>
          <a:blip r:embed="rId1"/>
          <a:srcRect l="56623" t="26450" r="0" b="8320"/>
          <a:stretch/>
        </p:blipFill>
        <p:spPr>
          <a:xfrm>
            <a:off x="3429000" y="641520"/>
            <a:ext cx="23623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114440"/>
            <a:ext cx="54864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Hepner\AppData\Local\Microsoft\Windows\Temporary Internet Files\Content.IE5\A01RF3KD\MPj03144060000[1].jpg"/>
          <p:cNvPicPr/>
          <p:nvPr/>
        </p:nvPicPr>
        <p:blipFill>
          <a:blip r:embed="rId1"/>
          <a:stretch/>
        </p:blipFill>
        <p:spPr>
          <a:xfrm>
            <a:off x="3200400" y="914400"/>
            <a:ext cx="3657600" cy="170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3657600" y="220968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0" descr="C:\Users\Hepner\AppData\Local\Microsoft\Windows\Temporary Internet Files\Content.IE5\60JF1WTJ\MCj03110200000[1].wmf"/>
          <p:cNvPicPr/>
          <p:nvPr/>
        </p:nvPicPr>
        <p:blipFill>
          <a:blip r:embed="rId1"/>
          <a:stretch/>
        </p:blipFill>
        <p:spPr>
          <a:xfrm>
            <a:off x="2743200" y="685800"/>
            <a:ext cx="3429000" cy="320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4864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41144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riding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r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Hepner\AppData\Local\Microsoft\Windows\Temporary Internet Files\Content.IE5\A01RF3KD\MCj03379700000[1].wmf"/>
          <p:cNvPicPr/>
          <p:nvPr/>
        </p:nvPicPr>
        <p:blipFill>
          <a:blip r:embed="rId1"/>
          <a:stretch/>
        </p:blipFill>
        <p:spPr>
          <a:xfrm>
            <a:off x="4495680" y="1981080"/>
            <a:ext cx="1830600" cy="9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Hepner\AppData\Local\Microsoft\Windows\Temporary Internet Files\Content.IE5\68ZGCRBG\MCj03038350000[1].wmf"/>
          <p:cNvPicPr/>
          <p:nvPr/>
        </p:nvPicPr>
        <p:blipFill>
          <a:blip r:embed="rId2"/>
          <a:stretch/>
        </p:blipFill>
        <p:spPr>
          <a:xfrm>
            <a:off x="2514600" y="1828800"/>
            <a:ext cx="35812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Users\Hepner\AppData\Local\Microsoft\Windows\Temporary Internet Files\Content.IE5\XV4UTWKM\MCj03354860000[1].wmf"/>
          <p:cNvPicPr/>
          <p:nvPr/>
        </p:nvPicPr>
        <p:blipFill>
          <a:blip r:embed="rId1"/>
          <a:stretch/>
        </p:blipFill>
        <p:spPr>
          <a:xfrm>
            <a:off x="2895480" y="2023920"/>
            <a:ext cx="3886200" cy="2986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4953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4860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C:\Users\Hepner\AppData\Local\Microsoft\Windows\Temporary Internet Files\Content.IE5\0DIV0T1J\MCj04380230000[1].png"/>
          <p:cNvPicPr/>
          <p:nvPr/>
        </p:nvPicPr>
        <p:blipFill>
          <a:blip r:embed="rId2"/>
          <a:stretch/>
        </p:blipFill>
        <p:spPr>
          <a:xfrm>
            <a:off x="3429000" y="1295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C:\Users\Hepner\AppData\Local\Microsoft\Windows\Temporary Internet Files\Content.IE5\0DIV0T1J\MCj02871950000[1].wmf"/>
          <p:cNvPicPr/>
          <p:nvPr/>
        </p:nvPicPr>
        <p:blipFill>
          <a:blip r:embed="rId1"/>
          <a:stretch/>
        </p:blipFill>
        <p:spPr>
          <a:xfrm>
            <a:off x="2362320" y="1905120"/>
            <a:ext cx="43434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648320"/>
            <a:ext cx="5486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a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fr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6383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a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C:\Users\Hepner\AppData\Local\Microsoft\Windows\Temporary Internet Files\Content.IE5\A01RF3KD\MCj03000730000[1].wmf"/>
          <p:cNvPicPr/>
          <p:nvPr/>
        </p:nvPicPr>
        <p:blipFill>
          <a:blip r:embed="rId2"/>
          <a:stretch/>
        </p:blipFill>
        <p:spPr>
          <a:xfrm>
            <a:off x="4343400" y="1752480"/>
            <a:ext cx="17668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190760"/>
            <a:ext cx="548640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Hepner\AppData\Local\Microsoft\Windows\Temporary Internet Files\Content.IE5\68ZGCRBG\MCj02376620000[1].wmf"/>
          <p:cNvPicPr/>
          <p:nvPr/>
        </p:nvPicPr>
        <p:blipFill>
          <a:blip r:embed="rId1"/>
          <a:stretch/>
        </p:blipFill>
        <p:spPr>
          <a:xfrm>
            <a:off x="3505320" y="533520"/>
            <a:ext cx="36288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4419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ro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562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lo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Hepner\AppData\Local\Microsoft\Windows\Temporary Internet Files\Content.IE5\BOTRE3XY\MCj02395470000[1].wmf"/>
          <p:cNvPicPr/>
          <p:nvPr/>
        </p:nvPicPr>
        <p:blipFill>
          <a:blip r:embed="rId1"/>
          <a:stretch/>
        </p:blipFill>
        <p:spPr>
          <a:xfrm>
            <a:off x="3505320" y="2133720"/>
            <a:ext cx="2651040" cy="214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Hepner\AppData\Local\Microsoft\Windows\Temporary Internet Files\Content.IE5\XV4UTWKM\MCj04247100000[1].wmf"/>
          <p:cNvPicPr/>
          <p:nvPr/>
        </p:nvPicPr>
        <p:blipFill>
          <a:blip r:embed="rId2"/>
          <a:stretch/>
        </p:blipFill>
        <p:spPr>
          <a:xfrm>
            <a:off x="3657600" y="1676520"/>
            <a:ext cx="19591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52:10Z</dcterms:created>
  <dc:creator>Hepner</dc:creator>
  <dc:description/>
  <dc:language>en-US</dc:language>
  <cp:lastModifiedBy>Hepner</cp:lastModifiedBy>
  <dcterms:modified xsi:type="dcterms:W3CDTF">2009-11-28T16:42:57Z</dcterms:modified>
  <cp:revision>14</cp:revision>
  <dc:subject/>
  <dc:title>Rhyme Time</dc:title>
</cp:coreProperties>
</file>